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2D7A-1B44-49BC-ADD3-4680FF595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E405-EB06-4863-BD00-A9E7558A8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6E9C-9AE3-4DE5-B018-5853D4C32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951E-A07B-4CFE-8E31-D1BAE7C37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422B-7CF9-45FA-B2B9-3EA75CA3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6BD2-908A-4F2C-A688-1A34FEC90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A672-4047-49E6-AE43-FD53F333F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DB10-1471-4A07-BEEA-26E9C6C23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3E2B-CA35-4600-B8B6-85E023AD2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5925-DE19-4FEC-83BA-D0B6591CD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9897-CF2B-4F23-8DA9-3A1270A7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EBA5-4E8D-4B01-ABB3-0F84385DF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AC8E-74C2-453D-9243-6E852CE19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996-DB61-4B42-A429-9E30AFED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72B-3461-4CF8-A16E-62F8550B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208-65BB-4BDD-9D89-D5FEF5136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872D-A30F-47E3-9840-DCA2726BB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1C07-8889-4048-80B5-E2B7E535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B64A-DE56-41B0-B76A-23B92D21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5E8C-4CDC-4B0B-89B9-C8A74C97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16F1-52AB-4AE8-ACE4-FC306978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2C89-FFE1-4754-A67C-69C65742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7B86-97AF-4420-A92F-D9D751C8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44F2-CFCC-4FD7-80D4-090C6F05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4A53-EE5A-4008-BC96-06BEE1A6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5909-C646-44D7-A90B-7E83E9AF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3599-BDB7-4A7D-BD52-0B9F3979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9AC6-5B67-40FA-83AE-D67857E1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24BF-B554-4E09-AA8F-ADC77D12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27B-8AC9-421B-A779-518AA304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121-FF1D-47CC-8231-FD743768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B52-51D2-472A-9735-11E5E273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41E7-E8D6-49AB-9BE2-99B09BDB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84A9-080B-4F5D-8856-659763A3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E40-E9ED-4B96-AB83-29812382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262-78F5-4DC5-A557-1292FC1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D32F-5E84-45CA-88B6-1554C21B85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12D0-448B-4912-9E20-D000C2EF61D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Biological Productivity and Energy Flow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2209680"/>
            <a:ext cx="62485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nough Food be Produced for Africa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Picture 5" descr="heatflowimage"/>
          <p:cNvPicPr/>
          <p:nvPr/>
        </p:nvPicPr>
        <p:blipFill>
          <a:blip r:embed="rId1"/>
          <a:stretch/>
        </p:blipFill>
        <p:spPr>
          <a:xfrm>
            <a:off x="685800" y="304920"/>
            <a:ext cx="7086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9" name="Picture 5" descr="trophic_levels_individuals"/>
          <p:cNvPicPr/>
          <p:nvPr/>
        </p:nvPicPr>
        <p:blipFill>
          <a:blip r:embed="rId1"/>
          <a:stretch/>
        </p:blipFill>
        <p:spPr>
          <a:xfrm>
            <a:off x="304920" y="228600"/>
            <a:ext cx="4419360" cy="6248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Figure 1.4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Box 4"/>
          <p:cNvSpPr/>
          <p:nvPr/>
        </p:nvSpPr>
        <p:spPr>
          <a:xfrm>
            <a:off x="4648320" y="6019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 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228240"/>
            <a:ext cx="62485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t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t of organic matter in an ecosystem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ncreases though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hange over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3" descr="Dead Coyote"/>
          <p:cNvPicPr/>
          <p:nvPr/>
        </p:nvPicPr>
        <p:blipFill>
          <a:blip r:embed="rId1"/>
          <a:stretch/>
        </p:blipFill>
        <p:spPr>
          <a:xfrm>
            <a:off x="685800" y="2895480"/>
            <a:ext cx="4229280" cy="28958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4"/>
          <p:cNvSpPr/>
          <p:nvPr/>
        </p:nvSpPr>
        <p:spPr>
          <a:xfrm>
            <a:off x="681120" y="6084720"/>
            <a:ext cx="79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ts, animals and dead are all bio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686440" y="2895480"/>
            <a:ext cx="2286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avalanche%20scar%20spruce%20"/>
          <p:cNvPicPr/>
          <p:nvPr/>
        </p:nvPicPr>
        <p:blipFill>
          <a:blip r:embed="rId2"/>
          <a:stretch/>
        </p:blipFill>
        <p:spPr>
          <a:xfrm>
            <a:off x="5743440" y="2895480"/>
            <a:ext cx="3019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emoautotroph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teria that us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organic compounds (like sulfu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o make their own food and t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Endeavour Hot Vent Photograph"/>
          <p:cNvPicPr/>
          <p:nvPr/>
        </p:nvPicPr>
        <p:blipFill>
          <a:blip r:embed="rId1"/>
          <a:stretch/>
        </p:blipFill>
        <p:spPr>
          <a:xfrm>
            <a:off x="533520" y="380988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bacterial mats near methane seep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5029200" y="5105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ite-ish area is a bacterial m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ing on methane from beneath the ocean flo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1143000" y="6491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thermal 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330066"/>
                </a:solidFill>
                <a:uFillTx/>
                <a:latin typeface="Arial"/>
              </a:rPr>
              <a:t>Energy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-174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systems are all open to energy 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in          food chain           heat rele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not used is lost (as heat)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tor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t Production of Bioma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Pg 166 and 1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ee Bozeman flipped le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"/>
          <p:cNvSpPr/>
          <p:nvPr/>
        </p:nvSpPr>
        <p:spPr>
          <a:xfrm>
            <a:off x="23623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"/>
          <p:cNvSpPr/>
          <p:nvPr/>
        </p:nvSpPr>
        <p:spPr>
          <a:xfrm>
            <a:off x="48769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533520" y="4114800"/>
            <a:ext cx="7924680" cy="1676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ine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tential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can move back and forth between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w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ropy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easure of disorder, wasted energy - becomes more random, can be sound or light but is mostly heat, everything always moves towards entr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The laws of thermodynam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1st Law – conservation of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nergy cannot be created or destroy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total amount of energy in the universe is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ns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2nd Law- entropy incr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nergy moves to a less organized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living cells are holding off the forces of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ropy b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hanneling ener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no energy conversion is 100% complete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ic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60912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low i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e way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highly organized useful state, to less useful (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e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Picture: Whooping crane foodweb"/>
          <p:cNvPicPr/>
          <p:nvPr/>
        </p:nvPicPr>
        <p:blipFill>
          <a:blip r:embed="rId1"/>
          <a:stretch/>
        </p:blipFill>
        <p:spPr>
          <a:xfrm>
            <a:off x="3124080" y="990720"/>
            <a:ext cx="6019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ergy ef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efficient are orgs at using energ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ver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 of thumb 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4:15:28Z</dcterms:created>
  <dc:creator>tosborne</dc:creator>
  <dc:description/>
  <dc:language>en-US</dc:language>
  <cp:lastModifiedBy>infosys</cp:lastModifiedBy>
  <dcterms:modified xsi:type="dcterms:W3CDTF">2015-10-22T23:04:59Z</dcterms:modified>
  <cp:revision>22</cp:revision>
  <dc:subject/>
  <dc:title>Chapter 8 Biological Productivity and Energy Flow</dc:title>
</cp:coreProperties>
</file>